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2110-FE4F-4625-9E68-F3590A10C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users.rcn.com/jkimball.ma.ultranet/BiologyPages/D/DNAReplication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haronchoi-sbi4u.blogspot.com/2010/09/dna-replication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accessexcellence.org/RC/VL/GG/possible.php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D4D5-301A-45F7-88C8-0F0F2D09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4D2-B146-4606-AF22-9921BE40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92E4-9EAB-4B47-A7A0-0C3B28D8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F71-E11E-4868-A962-DB6AB8BA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C2EE-56A2-457B-BC71-B616F07B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A41-C06F-43EC-8D3F-77FA3A50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A3D-7851-4C48-9C55-BCE40C23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8D4E-8299-4882-98AF-9A42A38C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158-69FF-442C-AC9F-F1D7FA3F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77D3-E0E6-49CB-B6DF-8E885166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D8D-5BED-4972-AB15-681F6828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3377-4537-456D-9ECB-6AB44837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6DE3-9388-4A86-B268-8246AF08F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nthesizes an RNA primer of 10-60 base pairs to the template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ds complementary nucleoside triphosphates in the 5’ to 3’ direction to the RNA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867280" y="5181480"/>
            <a:ext cx="22100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ing st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uilt continuous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w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replication f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gging st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uil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w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replication fork, and is built in short segment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kazaki 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50960" y="1981080"/>
            <a:ext cx="404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90480" y="1981080"/>
            <a:ext cx="776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moves RNA primers (from both the leading and lagging strands) and replaces them with deoxyribo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lig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s Okazaki fragments into one strand, through creation of phosphodiester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eck new strands of DNA for errors as they are synthes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onucle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xcising incorrect nucleotides and adding the correct nucleotides to the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between Prokaryotic &amp; Eukary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usually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e replication ori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rokaryotic DNA,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re than one replication ori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ukaryotic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between Prokaryotic &amp; Eukary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karyotic cell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NA polymerase I, II, and I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in replication and repair;  in eukaryotic cells, there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re than 3 different types of DNA poly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nteractive animation with questions is a good self-study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DNA Repl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www.wiley.com/legacy/college/boyer/0470003790/animations/animation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fantastic website.  At this part of the site there are multiple-choice problem sets.  Try the problem sets on Meselson-Stahl and DNA replication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ttp://www.biology.arizona.edu/molecular_bio/problem_sets/nucleic_acids/nucleic_acids_1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Graw-Hill narrated animation of DNA repl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</a:rPr>
              <a:t>http://highered.mcgraw-hill.com/sites/0072437316/student_view0/chapter14/animation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replication is essential for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DNA replica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i-conserv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rv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’m not a huge fan of this site, but it shows the molecule structure of DNA and the enzymes in the animation of DNA replic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ttp://www.johnkyrk.com/DNAreplic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-conserva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73480" y="1981080"/>
            <a:ext cx="439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elson &amp; Stahl (195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um containing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(heavy isotope of nitrogen) for 17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d that bacterial DNA was labelled with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elson &amp; Stahl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labelled bacteria into a medium containing only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and allowed it to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centrifuged samples of th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labelled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elson &amp; Stahl Experi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at: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http://highered.mcgraw-hill.com/sites/0072437316/student_view0/chapter14/animatio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Meselson &amp; Stahl experi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the results have been if DNA replication was conserva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4830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43000" y="2438280"/>
          <a:ext cx="6858000" cy="30477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heli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isomer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polymerase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polymerase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lig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helic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eaks H-bonds between complementary base pairs, unwinding the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-stranded binding proteins (SSB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nd to the unwound single strands of DNA to prevent the H-bonds from ref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oisomer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ieve tension caused by the unwinding of the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ut both strands and allow them to swivel around each other, then reseal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2:41:59Z</dcterms:created>
  <dc:creator>rubina khan</dc:creator>
  <dc:description/>
  <dc:language>en-US</dc:language>
  <cp:lastModifiedBy>rubina khan</cp:lastModifiedBy>
  <dcterms:modified xsi:type="dcterms:W3CDTF">2013-11-11T17:59:34Z</dcterms:modified>
  <cp:revision>91</cp:revision>
  <dc:subject/>
  <dc:title>Molecular Genetics</dc:title>
</cp:coreProperties>
</file>